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4801-9E7B-484D-9326-CECA8681F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4009-38EF-419D-BACD-82974E872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53F6-E904-4EE7-9855-3EE0B698E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89BC-4F7C-401B-882A-5843B4335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B440-25E3-4B9B-AE3E-02EF9570E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63D5-3CB3-4609-B557-9BD7E5B5E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E0BC-92B1-4CAF-922E-ED21017B2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8AD7-5852-493C-9927-52FD78941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4F7C-1620-434C-BEFB-029D04C81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F668-37A7-4354-A0D6-0088C06B0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32AE-856A-4EC8-AE61-62B0201C0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7F8D-1153-4B24-B937-1DCE1C0BE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675E3-226F-4A3E-9847-81833A7D7F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379520" y="228600"/>
            <a:ext cx="638496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081160" y="304920"/>
            <a:ext cx="498168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3T14:42:23Z</dcterms:created>
  <dc:creator>Patrick Mooney</dc:creator>
  <dc:description/>
  <dc:language>en-US</dc:language>
  <cp:lastModifiedBy>Patrick Mooney</cp:lastModifiedBy>
  <dcterms:modified xsi:type="dcterms:W3CDTF">2009-11-03T14:47:56Z</dcterms:modified>
  <cp:revision>1</cp:revision>
  <dc:subject/>
  <dc:title>Slide 1</dc:title>
</cp:coreProperties>
</file>